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F12-3005-4118-A52B-65587083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800" y="344772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26A-0F12-47BE-92A3-89E21D57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416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800" y="34477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4160" y="34477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A46-D26A-4F6E-B694-78A4D84C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9320" y="11750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5480" y="11750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2800" y="34477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9320" y="34477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5480" y="34477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56E-08D3-4967-8E92-6CCAB632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FF556-E29B-4E1B-B0C9-1DB7F5B6B9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78154-C9CA-4639-89F2-1B948A3891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02D43-0C9D-4E45-BC56-2EF18630C4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17504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4511B-1DF9-402A-9204-7F12153766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CF08F-211F-4B37-9785-C7853DDE0E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28560" y="0"/>
            <a:ext cx="7886520" cy="37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01BAD-1A81-4AAC-9245-9A6A015809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160" y="117504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2800" y="34477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97876-E955-4E67-8648-571FF1A5B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25E-64A0-45C9-BBBB-7A6611F7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16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4160" y="34477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E0D87-F604-4550-A065-74C09D41BE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800" y="344772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1E594-C285-493C-AA13-EF3D928B69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2800" y="344772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E67EE-0AD7-4C96-83FF-B1FA861A78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16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800" y="34477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4160" y="34477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1C8FD-D5D8-4632-BFF0-17ED34FA61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9320" y="11750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55480" y="11750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2800" y="34477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9320" y="34477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55480" y="34477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7542B-0DA9-4DA8-AD9B-1E52EDCE6C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59F-BD36-4BF9-8861-BC6FD411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160" y="117504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DA0-9C38-47D6-BFB3-2D3819D4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B1F-98ED-48C6-A686-A28E6883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28560" y="0"/>
            <a:ext cx="7886520" cy="37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E3C-4DB6-4189-ADE6-D6CA2863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17504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800" y="34477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FF2-C094-4FCF-BA95-7EF09EFB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4160" y="34477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DA3-893E-4D0D-B284-24D61A7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160" y="11750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2800" y="344772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CED-7950-489F-8043-4441C96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07800" cy="364680"/>
          </a:xfrm>
          <a:prstGeom prst="rect">
            <a:avLst/>
          </a:prstGeom>
          <a:solidFill>
            <a:srgbClr val="00aee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314280" y="365040"/>
            <a:ext cx="222120" cy="244080"/>
          </a:xfrm>
          <a:prstGeom prst="rect">
            <a:avLst/>
          </a:prstGeom>
          <a:solidFill>
            <a:srgbClr val="193b6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92960"/>
            <a:ext cx="9143640" cy="364680"/>
          </a:xfrm>
          <a:prstGeom prst="rect">
            <a:avLst/>
          </a:prstGeom>
          <a:solidFill>
            <a:srgbClr val="00aee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Rectangle 10"/>
          <p:cNvSpPr/>
          <p:nvPr/>
        </p:nvSpPr>
        <p:spPr>
          <a:xfrm flipV="1">
            <a:off x="626760" y="583920"/>
            <a:ext cx="8516880" cy="45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0" y="6590160"/>
            <a:ext cx="9143640" cy="267480"/>
          </a:xfrm>
          <a:prstGeom prst="rect">
            <a:avLst/>
          </a:prstGeom>
          <a:solidFill>
            <a:srgbClr val="193b6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159120" y="617040"/>
            <a:ext cx="154800" cy="2098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500" spc="-1" strike="noStrike">
                <a:solidFill>
                  <a:srgbClr val="0070c0"/>
                </a:solidFill>
                <a:latin typeface="Calibri Light"/>
              </a:rPr>
              <a:t>Click to edit Master title styl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029040" y="64177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724240" y="6492960"/>
            <a:ext cx="289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F1E8EB-EA43-48D2-9625-8EF04711F410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307800" cy="364680"/>
          </a:xfrm>
          <a:prstGeom prst="rect">
            <a:avLst/>
          </a:prstGeom>
          <a:solidFill>
            <a:srgbClr val="00aee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14280" y="365040"/>
            <a:ext cx="222120" cy="244080"/>
          </a:xfrm>
          <a:prstGeom prst="rect">
            <a:avLst/>
          </a:prstGeom>
          <a:solidFill>
            <a:srgbClr val="193b6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492960"/>
            <a:ext cx="9143640" cy="364680"/>
          </a:xfrm>
          <a:prstGeom prst="rect">
            <a:avLst/>
          </a:prstGeom>
          <a:solidFill>
            <a:srgbClr val="00aee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 flipV="1">
            <a:off x="626760" y="583920"/>
            <a:ext cx="8516880" cy="45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6590160"/>
            <a:ext cx="9143640" cy="267480"/>
          </a:xfrm>
          <a:prstGeom prst="rect">
            <a:avLst/>
          </a:prstGeom>
          <a:solidFill>
            <a:srgbClr val="193b6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59120" y="617040"/>
            <a:ext cx="154800" cy="2098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2700" spc="-1" strike="noStrike">
                <a:solidFill>
                  <a:srgbClr val="0070c0"/>
                </a:solidFill>
                <a:latin typeface="Calibri Light"/>
              </a:rPr>
              <a:t>Click to edit Master title sty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Edit Master text sty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1500" spc="-1" strike="noStrike">
                <a:solidFill>
                  <a:srgbClr val="595959"/>
                </a:solidFill>
                <a:latin typeface="Calibri"/>
              </a:rPr>
              <a:t>Third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1350" spc="-1" strike="noStrike">
                <a:solidFill>
                  <a:srgbClr val="595959"/>
                </a:solidFill>
                <a:latin typeface="Calibri"/>
              </a:rPr>
              <a:t>Fourth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1350" spc="-1" strike="noStrike">
                <a:solidFill>
                  <a:srgbClr val="595959"/>
                </a:solidFill>
                <a:latin typeface="Calibri"/>
              </a:rPr>
              <a:t>Fifth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8724240" y="6492960"/>
            <a:ext cx="289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DBBA59-A5D9-4615-A0CC-E014BF8B7EE9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134200" cy="144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IN" sz="4500" spc="-1" strike="noStrike">
                <a:solidFill>
                  <a:srgbClr val="0070c0"/>
                </a:solidFill>
                <a:latin typeface="Calibri Light"/>
              </a:rPr>
              <a:t>&lt;Company Name &amp; Logo&gt;</a:t>
            </a:r>
            <a:br>
              <a:rPr sz="4500"/>
            </a:br>
            <a:r>
              <a:rPr b="0" lang="en-IN" sz="4500" spc="-1" strike="noStrike">
                <a:solidFill>
                  <a:srgbClr val="0070c0"/>
                </a:solidFill>
                <a:latin typeface="Calibri Light"/>
              </a:rPr>
              <a:t>Project Title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267640" y="494100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Template for P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IN" sz="2700" spc="-1" strike="noStrike">
                <a:solidFill>
                  <a:srgbClr val="0070c0"/>
                </a:solidFill>
                <a:latin typeface="Calibri Light"/>
              </a:rPr>
              <a:t>Project Milesto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IN" sz="2100" spc="-1" strike="noStrike">
                <a:solidFill>
                  <a:srgbClr val="595959"/>
                </a:solidFill>
                <a:latin typeface="Calibri"/>
              </a:rPr>
              <a:t>What will be done at the end of the project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IN" sz="2100" spc="-1" strike="noStrike">
                <a:solidFill>
                  <a:srgbClr val="595959"/>
                </a:solidFill>
                <a:latin typeface="Calibri"/>
              </a:rPr>
              <a:t>Break it up into 2 mileston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6"/>
          </p:nvPr>
        </p:nvSpPr>
        <p:spPr>
          <a:xfrm>
            <a:off x="8724240" y="6492960"/>
            <a:ext cx="289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C10603-525D-4058-B17C-3611A30B42A9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>
              <a:lnSpc>
                <a:spcPct val="90000"/>
              </a:lnSpc>
              <a:buNone/>
            </a:pPr>
            <a:r>
              <a:rPr b="1" lang="en-IN" sz="2700" spc="-1" strike="noStrike">
                <a:solidFill>
                  <a:srgbClr val="0070c0"/>
                </a:solidFill>
                <a:latin typeface="Calibri Light"/>
              </a:rPr>
              <a:t>Total Budget, Required Support and Reg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The slide SHOULD indicate the total budget of the project &amp; costing under different heads like Hardware/Infrastructure, Resources &amp; Salaries, Outsourcing, Marketing, Admin costs etc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IN" sz="2700" spc="-1" strike="noStrike">
                <a:solidFill>
                  <a:srgbClr val="0070c0"/>
                </a:solidFill>
                <a:latin typeface="Calibri Light"/>
              </a:rPr>
              <a:t>Introduction about the Compan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8053200" cy="506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Company Name (As per Incorporation only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Company Website/UR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Date (DD/MM/YYYY) of Incorporation (CIN)/ Registra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Name of the Director(s)/ Partner (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Please add more rows if there are more Directors/ Partn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Table 3"/>
          <p:cNvGraphicFramePr/>
          <p:nvPr/>
        </p:nvGraphicFramePr>
        <p:xfrm>
          <a:off x="755640" y="2997000"/>
          <a:ext cx="7200360" cy="1728000"/>
        </p:xfrm>
        <a:graphic>
          <a:graphicData uri="http://schemas.openxmlformats.org/drawingml/2006/table">
            <a:tbl>
              <a:tblPr/>
              <a:tblGrid>
                <a:gridCol w="288000"/>
                <a:gridCol w="3312360"/>
                <a:gridCol w="2160000"/>
                <a:gridCol w="144000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IN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IN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IN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 </a:t>
                      </a:r>
                      <a:r>
                        <a:rPr b="1" lang="en-IN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As per the RoC or Partnership De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IN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DIN Number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IN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In case of RoC Compan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IN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o of Sh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8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IN" sz="14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IN" sz="14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IN" sz="14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IN" sz="14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IN" sz="14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IN" sz="14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IN" sz="14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IN" sz="14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2700" spc="-1" strike="noStrike">
                <a:solidFill>
                  <a:srgbClr val="0070c0"/>
                </a:solidFill>
                <a:latin typeface="Calibri Light"/>
              </a:rPr>
              <a:t>Problem Stat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What problem your innovation is trying to solve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5"/>
          </p:nvPr>
        </p:nvSpPr>
        <p:spPr>
          <a:xfrm>
            <a:off x="8724240" y="6492960"/>
            <a:ext cx="289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B27D16-EA55-42E2-B0BB-6ECE6ADEC8A3}" type="slidenum">
              <a:rPr b="0" lang="en-US" sz="9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IN" sz="2700" spc="-1" strike="noStrike">
                <a:solidFill>
                  <a:srgbClr val="0070c0"/>
                </a:solidFill>
                <a:latin typeface="Calibri Light"/>
              </a:rPr>
              <a:t>Product/ Solution - Innov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Clearly explain about your innovation, and it will solve the problems or issu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Is your innovation 1</a:t>
            </a:r>
            <a:r>
              <a:rPr b="0" lang="en-US" sz="2100" spc="-1" strike="noStrike" baseline="30000">
                <a:solidFill>
                  <a:srgbClr val="595959"/>
                </a:solidFill>
                <a:latin typeface="Calibri"/>
              </a:rPr>
              <a:t>st</a:t>
            </a: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 of its kind or is it an improvement/ incremental to existing product/ solutions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How your innovation is unique when compared to others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IN" sz="2700" spc="-1" strike="noStrike">
                <a:solidFill>
                  <a:srgbClr val="0070c0"/>
                </a:solidFill>
                <a:latin typeface="Calibri Light"/>
              </a:rPr>
              <a:t>Product/ Solution - Readiness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9800" y="12686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What stage is your product/ solution in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Ideation/ Wireframe Design/ Idea Valid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Proof of Concep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Early Trac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Post the images of your product/ solu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IN" sz="2700" spc="-1" strike="noStrike">
                <a:solidFill>
                  <a:srgbClr val="0070c0"/>
                </a:solidFill>
                <a:latin typeface="Calibri Light"/>
              </a:rPr>
              <a:t>Socio-Economic Impact of the Project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How your innovation is trying to impact the society/ environ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Does it have huge employment generation, empower any section of the society, improve lives of people, reduce carbon footprint, reduce power consumption etc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>
              <a:lnSpc>
                <a:spcPct val="90000"/>
              </a:lnSpc>
              <a:buNone/>
            </a:pPr>
            <a:r>
              <a:rPr b="1" lang="en-IN" sz="2700" spc="-1" strike="noStrike">
                <a:solidFill>
                  <a:srgbClr val="0070c0"/>
                </a:solidFill>
                <a:latin typeface="Calibri Light"/>
              </a:rPr>
              <a:t>Team Size, Background, Strength /Capability and Resou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Director(s)/ Partner(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esign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xp/ Qual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Previous Co worke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--------------------------------------------------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Team Pho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esign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xp/ Qualif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Previous Co worke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>
              <a:lnSpc>
                <a:spcPct val="90000"/>
              </a:lnSpc>
              <a:buNone/>
            </a:pPr>
            <a:r>
              <a:rPr b="1" lang="en-IN" sz="2700" spc="-1" strike="noStrike">
                <a:solidFill>
                  <a:srgbClr val="0070c0"/>
                </a:solidFill>
                <a:latin typeface="Calibri Light"/>
              </a:rPr>
              <a:t>Market Landscape - Market Potential, Competi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Size (Revenue) of the market which you are addr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Market Potential in terms of customer size based on demograph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Competi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Uniqueness compared to compet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IN" sz="2700" spc="-1" strike="noStrike">
                <a:solidFill>
                  <a:srgbClr val="0070c0"/>
                </a:solidFill>
                <a:latin typeface="Calibri Light"/>
              </a:rPr>
              <a:t>Business Model &amp; Strateg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2800" y="117504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Revenue Model - Pricing and Revenue Forecast across years and how it will grow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Business Model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Channel (Retailing, Franchising, B2B, B2C etc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95959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100" spc="-1" strike="noStrike">
                <a:solidFill>
                  <a:srgbClr val="595959"/>
                </a:solidFill>
                <a:latin typeface="Calibri"/>
              </a:rPr>
              <a:t>Sharing between different players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5_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5_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  <Words>379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6:53:36Z</dcterms:created>
  <dc:creator>Admin</dc:creator>
  <dc:description/>
  <dc:language>en-US</dc:language>
  <cp:lastModifiedBy>KITS</cp:lastModifiedBy>
  <dcterms:modified xsi:type="dcterms:W3CDTF">2020-09-30T11:06:06Z</dcterms:modified>
  <cp:revision>21</cp:revision>
  <dc:subject/>
  <dc:title>Sample template of PPT -  Application for Pitch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1</vt:r8>
  </property>
</Properties>
</file>